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586872"/>
        <c:axId val="96344782"/>
      </c:barChart>
      <c:catAx>
        <c:axId val="255868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344782"/>
        <c:crosses val="autoZero"/>
        <c:auto val="1"/>
        <c:lblAlgn val="ctr"/>
        <c:lblOffset val="100"/>
        <c:noMultiLvlLbl val="0"/>
      </c:catAx>
      <c:valAx>
        <c:axId val="963447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868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65D1-42D9-4567-9CB0-39C891BAD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C79C-925C-4564-A1BF-5158C6F37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0B0-5A5E-486C-84F4-63CE9B0A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0175-0026-4832-A8F3-03225D8E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98FD-DB97-450F-81E6-0EF57837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8104-3635-4C14-A6F2-031D3BD50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183-CAA8-475E-88B2-DCABA19A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4B68-214F-4F01-A9A7-C5C7E02D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E2A2-E4B4-41CE-B8F4-242ED65D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A63-95DC-42FE-B6FC-2BE590CA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191-6CDF-4D90-8CB4-2A286E3F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B73E-26F8-4353-B959-B285674A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3124C-0481-4359-BEC9-1E888E938A9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