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91107"/>
        <c:axId val="34129324"/>
      </c:barChart>
      <c:catAx>
        <c:axId val="648911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29324"/>
        <c:crosses val="autoZero"/>
        <c:auto val="1"/>
        <c:lblAlgn val="ctr"/>
        <c:lblOffset val="100"/>
        <c:noMultiLvlLbl val="0"/>
      </c:catAx>
      <c:valAx>
        <c:axId val="34129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911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7BC-589D-4A16-98A1-F4F9AC6E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AE3-803C-4100-9954-800A5F84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F3E5-DE33-4EFF-BBF8-466ADC1B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89D-2B61-442F-A694-E0D976CA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746-4E64-44D7-9C56-4050AACD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EA0-11F2-40E7-AABC-AABFE208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EC5-FCE9-493F-AE3D-D72622D4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1A8-E1BE-425B-AF36-A07549EA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307-C8B6-4202-8CEB-7ADBCBF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382D-E9F5-4244-A8C9-9AC993EF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666-6934-460D-AD3E-D12D45DD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06C-3F52-4513-808D-B219A65E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5023F-FE96-402C-97FA-7C522DA810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