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69560"/>
        <c:axId val="9228549"/>
      </c:barChart>
      <c:catAx>
        <c:axId val="94569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8549"/>
        <c:crosses val="autoZero"/>
        <c:auto val="1"/>
        <c:lblAlgn val="ctr"/>
        <c:lblOffset val="100"/>
        <c:noMultiLvlLbl val="0"/>
      </c:catAx>
      <c:valAx>
        <c:axId val="9228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69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A6D-EB86-4730-AE51-94291621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C35-266F-4C37-A990-B5CEA3E1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98C-443C-4822-852A-09E21FF2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80B-CA23-4A2C-B80A-8E566716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980-2F12-4B20-A53D-F73DBA05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BAD-5CEB-4FDE-BBCE-D805C7D7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9EE-090B-4EAB-8107-75C0CC7D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16F-D64C-47CF-9CF3-0DB6E7BD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06C-3510-44F0-A8B2-9E68BE1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B34-8BE4-4E5B-BF4D-3F6AD7F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18B-EA0F-4354-837B-3A346DE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C7A-60B6-485C-85AA-2E3411A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ECBB9-4559-4131-AFB0-4037DA5A33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