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796518"/>
        <c:axId val="44330236"/>
      </c:barChart>
      <c:catAx>
        <c:axId val="267965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30236"/>
        <c:crosses val="autoZero"/>
        <c:auto val="1"/>
        <c:lblAlgn val="ctr"/>
        <c:lblOffset val="100"/>
        <c:noMultiLvlLbl val="0"/>
      </c:catAx>
      <c:valAx>
        <c:axId val="443302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965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FE7F-6EBD-483A-A5BA-A195E670E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1FF2-0147-4AF9-BC9A-E3768C0D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B267-777D-4CB7-AD26-1940CC687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055A-D316-4FCD-A159-AAF7C5DC6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BBAF-CDE0-4538-9E09-628A3AC4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6E3D-B9F0-4F21-B439-88ECBB21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7CB8-239A-4459-B99A-D5EDB1E4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E7F8-58F7-4126-B7E0-86C5C660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2019-C759-48CA-9AB8-BA9EC359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EC87-DA92-4F30-BD6F-83A3A64D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8BD4-EE3D-4F55-92FC-5DE7AE22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FC6F-F8AA-4E98-AAA1-A47AB984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393FC-8BA1-4174-95A7-467A59BD52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