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53344"/>
        <c:axId val="24716796"/>
      </c:barChart>
      <c:catAx>
        <c:axId val="94453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16796"/>
        <c:crosses val="autoZero"/>
        <c:auto val="1"/>
        <c:lblAlgn val="ctr"/>
        <c:lblOffset val="100"/>
        <c:noMultiLvlLbl val="0"/>
      </c:catAx>
      <c:valAx>
        <c:axId val="24716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53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3B2-D77A-4D72-9DD8-C1AFC021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78D-CF3C-4F05-995D-EDBDFF74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E3E-336A-4BB1-9A90-781F31BC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F43-D93A-4B3C-965C-CBBB80BE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9CE-4A5C-4340-AF7C-B52829B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BBD-A60C-448A-BD45-E2305F0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DCC-9F6F-453B-8D55-4A744378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8F6-B29B-4C10-BC47-A738D3BD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384-2354-4FED-B4D2-FCE593E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623-3B44-46A4-B871-0EAE3E5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79E-334A-4A1A-ABD1-B81B62A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D15-C0B7-47AB-8C50-17EB284A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D38B4-2B36-48E0-9DBE-2AFF2491D4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