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9786"/>
        <c:axId val="56219759"/>
      </c:barChart>
      <c:catAx>
        <c:axId val="59989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19759"/>
        <c:crosses val="autoZero"/>
        <c:auto val="1"/>
        <c:lblAlgn val="ctr"/>
        <c:lblOffset val="100"/>
        <c:noMultiLvlLbl val="0"/>
      </c:catAx>
      <c:valAx>
        <c:axId val="5621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9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D33-87AB-4080-8C79-80A65C7E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753-5E8B-43C3-A861-29201616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D03-2324-48B0-82E7-7D13AE68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D1F-F38B-4AB9-8AB3-EAC585CB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D03-5D63-44A9-BA6F-CFAD3DE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3A9-65B0-4DDD-9CBD-8770C2A8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AE5-90BF-4C96-B46D-9815F00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1A0-6E6C-4DF7-BA08-B42A4DE5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A6C-AE25-49FD-8FF7-847351D4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EDC-66D1-4E03-99DD-59CFD76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471-E9A6-41F4-9478-D48F49E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956-431D-47D5-834B-0E1C702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8C874-A8FB-4FCD-951A-663FB7DC8C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