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41226"/>
        <c:axId val="2646820"/>
      </c:barChart>
      <c:catAx>
        <c:axId val="51541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6820"/>
        <c:crosses val="autoZero"/>
        <c:auto val="1"/>
        <c:lblAlgn val="ctr"/>
        <c:lblOffset val="100"/>
        <c:noMultiLvlLbl val="0"/>
      </c:catAx>
      <c:valAx>
        <c:axId val="2646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41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040-FA1D-444F-8925-10E4DA27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BDE-83E0-4A9F-9026-643268C1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D36-AD93-4FF4-B8FF-904C85B0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E23-A76D-410D-8FAA-0A12F1CE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F32-2022-4851-97AF-B61102A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A0C-B9A9-4932-A3AD-321D69E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2FC-69B8-4B36-9B2B-4D4AC815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FF1-AD28-477F-BCCD-9504F142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E5C-A664-4BE8-97D6-9C7FF369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02C-1F23-425F-8DBD-73BCF34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286-33C1-4C8E-A3B7-9CA8D895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A16-6E9C-4732-BD53-6DA68DA8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670BF-4E94-4731-B12B-7864A0209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