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59711"/>
        <c:axId val="3134341"/>
      </c:barChart>
      <c:catAx>
        <c:axId val="82659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4341"/>
        <c:crosses val="autoZero"/>
        <c:auto val="1"/>
        <c:lblAlgn val="ctr"/>
        <c:lblOffset val="100"/>
        <c:noMultiLvlLbl val="0"/>
      </c:catAx>
      <c:valAx>
        <c:axId val="3134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59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E9D-EC74-4E3C-B1B4-F54350BA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557-AFAB-452B-BC4B-1FD6C1D9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981-6D6E-4EA3-AAD0-D452456B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E5B-32F1-4C51-9D1A-3BF3F115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3D1-4FB8-4847-BA6F-3097E9A7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58F-69BD-4CF9-B774-BA9C9E4C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DDE-36EB-4A0B-B34A-4B77CE70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6E7-D761-4FC8-B616-5B40333A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0C7-8C10-4174-BAC3-6DCA3169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630-87E3-44DA-A3D5-2372F731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B66-5BBB-464D-B71E-55C73D68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C1D-96BD-4CD3-9C05-EAFEF5D5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AC796-0437-4E93-8B75-889588AE6B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