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34256"/>
        <c:axId val="38289291"/>
      </c:barChart>
      <c:catAx>
        <c:axId val="90834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89291"/>
        <c:crosses val="autoZero"/>
        <c:auto val="1"/>
        <c:lblAlgn val="ctr"/>
        <c:lblOffset val="100"/>
        <c:noMultiLvlLbl val="0"/>
      </c:catAx>
      <c:valAx>
        <c:axId val="38289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34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B18-EB4E-4AF1-8FCF-86873A17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125-EF37-418A-B2EE-5D43BCDE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D8B-2D2D-4D7F-B8F5-685488F7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A1F-C65C-4AB4-839E-B8D9A951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EDD-6FDE-4931-9C8A-238F0310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809-82AE-4FB0-9EE3-ED6C310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270-F419-4C0F-86FF-DBFB5BC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318-DAB7-4951-BF00-3B4F282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07C-C788-4754-B388-E05F0037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8DD-857D-4113-A3E9-1B7479AB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971-DED6-43BA-8315-0BF11FE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344-2E83-44EF-AD3B-B2BC2188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4B9B4-4A36-4554-823E-BDABD51DE9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