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7137"/>
        <c:axId val="86615377"/>
      </c:barChart>
      <c:catAx>
        <c:axId val="728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15377"/>
        <c:crosses val="autoZero"/>
        <c:auto val="1"/>
        <c:lblAlgn val="ctr"/>
        <c:lblOffset val="100"/>
        <c:noMultiLvlLbl val="0"/>
      </c:catAx>
      <c:valAx>
        <c:axId val="86615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76B-6C07-445C-8169-6922E4C4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D24-46FA-4E25-A12A-F9107B6A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A04-ECA7-4CE7-A328-53E8CC1E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A62-329F-41B8-A94A-5C095159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D09-F2D6-41FB-A5B0-69E7DAC9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3A7-7201-41E5-9C27-A56267CE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613-AD10-4AC6-8347-B9676F60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170-4019-4F76-A1B8-A9041E53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2FF-53EB-403B-BEF8-88EB3A6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510-F8F5-41F9-BE38-71E879A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FC5-5B51-4A78-B8B3-63378F7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83D-AAE7-4EEE-92DB-5E104E9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7285C-99F0-41E9-AA27-17342D119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