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687139"/>
        <c:axId val="1811384"/>
      </c:barChart>
      <c:catAx>
        <c:axId val="546871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1384"/>
        <c:crosses val="autoZero"/>
        <c:auto val="1"/>
        <c:lblAlgn val="ctr"/>
        <c:lblOffset val="100"/>
        <c:noMultiLvlLbl val="0"/>
      </c:catAx>
      <c:valAx>
        <c:axId val="18113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871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A401-53C9-4788-8761-5575BAD7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FBA8-290F-4198-B3AC-7099A725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E369-DE22-4921-8CBA-52FF903A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9AA5-3B34-4180-A0E1-6A7DB7CD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EDF6-A059-4D05-B767-6362921D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C9F3-8980-40D3-8B96-EF452E0E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DFBA-E01C-4A4B-8C9F-2A909CAD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3C78-3FAA-4FBA-8298-5F4852DA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A08A-A670-4A1B-B929-74DAF662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2F8B-DAFB-41DF-8F25-CF4F12C5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4DCF-7DD8-42A5-A528-880A3394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B8AF-484C-4155-8983-4DE7AEC8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6ED05-A7FF-4FE7-84E3-36F9DC09A0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