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69109"/>
        <c:axId val="29828785"/>
      </c:barChart>
      <c:catAx>
        <c:axId val="35369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28785"/>
        <c:crosses val="autoZero"/>
        <c:auto val="1"/>
        <c:lblAlgn val="ctr"/>
        <c:lblOffset val="100"/>
        <c:noMultiLvlLbl val="0"/>
      </c:catAx>
      <c:valAx>
        <c:axId val="29828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69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C8F-C08E-4DF3-8885-F8E1E1A4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8D3-BA9F-44C7-AC75-BE2B5FD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9C0-CE94-419A-9797-D2745EF1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837-7960-4174-9C75-2E463B01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FA0-3D22-463B-B4AE-11FA1A95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BD9-74D5-4EFB-AC72-426528F6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D4D-04DB-4A94-9B20-88D3C17C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F8D-80BD-41E6-BF9B-E735535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4A7-06EE-4356-B1F7-069ACEB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106-78ED-4E4F-9583-E3384F98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110-F24E-4480-B966-2BEB48F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8F0-BB2F-4C69-8A58-8D558C6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74386-8B1E-445A-9BC1-24028E2967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