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41897"/>
        <c:axId val="88852485"/>
      </c:barChart>
      <c:catAx>
        <c:axId val="88041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52485"/>
        <c:crosses val="autoZero"/>
        <c:auto val="1"/>
        <c:lblAlgn val="ctr"/>
        <c:lblOffset val="100"/>
        <c:noMultiLvlLbl val="0"/>
      </c:catAx>
      <c:valAx>
        <c:axId val="88852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41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BC6-ED53-4669-84D3-F089D20E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6F7-A813-43CF-8FA3-CBB509DD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919-B304-480C-89BA-EEE59AA9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015-CC05-45BC-9446-F3236F80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2FA-3CA3-41BA-9617-C254E3DE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C3F-A9EE-41B0-BC86-1FF0E398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8DB-1BF1-459A-BE33-875AF40D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FA8-D6D2-49A2-8B4C-374C2E54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C20-7E6F-4F98-A484-FE8E4C43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4B26-E80C-4534-8EFC-2ABFBC0E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E4F-2EDF-4AC3-A316-63F8A59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945-8906-4844-BA13-6D8582C9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F2C2B-7149-4BF7-8F2D-70E515B7BE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