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29766"/>
        <c:axId val="70548668"/>
      </c:barChart>
      <c:catAx>
        <c:axId val="77629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48668"/>
        <c:crosses val="autoZero"/>
        <c:auto val="1"/>
        <c:lblAlgn val="ctr"/>
        <c:lblOffset val="100"/>
        <c:noMultiLvlLbl val="0"/>
      </c:catAx>
      <c:valAx>
        <c:axId val="70548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29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375-6D9F-435B-BE8A-ED62414B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448-9358-498D-ABCD-E6AE2100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7DD-AC0B-4781-8C8C-663AB724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D3D-B666-4D7F-8282-2B856DDC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6EB-8850-4F2D-B691-DF84BE8D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EFB-3D11-48F5-AEA6-FD0CA109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410-93DF-4152-8E81-E47FA69F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0BC-AFA4-42EC-A5EA-847FA585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69D-B037-49C4-9A9A-7426769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C26-5B30-4BBF-B150-93A03597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662-360B-4C22-9EB6-8C05821D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58F-A429-4FEE-A1D0-D251BDF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38847-72DE-458C-9781-EF95B2F360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