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57195"/>
        <c:axId val="66672691"/>
      </c:barChart>
      <c:catAx>
        <c:axId val="572571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72691"/>
        <c:crosses val="autoZero"/>
        <c:auto val="1"/>
        <c:lblAlgn val="ctr"/>
        <c:lblOffset val="100"/>
        <c:noMultiLvlLbl val="0"/>
      </c:catAx>
      <c:valAx>
        <c:axId val="66672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571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E12-6B60-49D4-8969-4617F780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702A-0D00-4225-87FB-57DBB308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4FA-6218-4C6D-B203-C9AAEE48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C78-A986-4807-A977-8F52D548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4E5-120B-4151-A161-E5D05272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DAF-45A1-420B-B4BC-97B29713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810-A53E-4B52-B00F-FBC03555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EB9-727B-4F63-8CF4-686ECEC2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550-C3BC-4AAF-9FF8-52893BCD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C76-D1CE-48CA-8049-5AF272E5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C43-90A6-4DE1-B5C1-D5BA8658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088-BF85-4C9E-A10C-76CFEBA2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E2083-FEC1-4A22-9379-9EB8DC1DE0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