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5275"/>
        <c:axId val="82887379"/>
      </c:barChart>
      <c:catAx>
        <c:axId val="6835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87379"/>
        <c:crosses val="autoZero"/>
        <c:auto val="1"/>
        <c:lblAlgn val="ctr"/>
        <c:lblOffset val="100"/>
        <c:noMultiLvlLbl val="0"/>
      </c:catAx>
      <c:valAx>
        <c:axId val="82887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5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E26-7844-438C-B162-89CD1B83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921-CCA2-4008-ADCB-02090D2B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6BD-81DB-4E2F-BA45-7ACEFC0B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737-A3F8-4A95-8C37-236819D6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D4B-1A1C-4433-AB08-252114BB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01D-0951-4E0D-9C6E-C33DF10F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A95-B7D1-4FB4-90EA-B5846F0D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1E3-3A3B-43AF-9CB9-41A68265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937-7DEF-4CFE-9808-1BB2C8A5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2C2-FD1C-40E8-B5D8-C07E4CCD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3CB-AE6A-4965-87AC-51A6FAE2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5B0-555D-4E68-A16D-CC98494E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DB483-6E74-4437-A727-D6E169B708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