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316237"/>
        <c:axId val="58220713"/>
      </c:barChart>
      <c:catAx>
        <c:axId val="833162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220713"/>
        <c:crosses val="autoZero"/>
        <c:auto val="1"/>
        <c:lblAlgn val="ctr"/>
        <c:lblOffset val="100"/>
        <c:noMultiLvlLbl val="0"/>
      </c:catAx>
      <c:valAx>
        <c:axId val="582207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3162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C4D1-691F-4C9F-A00B-6ADBDF6AE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2215-20C0-4F3A-A310-CBBE2799E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4E85-0ECF-4D98-B4C3-68E839996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0227-897F-4F17-88A4-4CCCEC974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1F12-4F94-4068-9915-8B485FFFC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F119-B707-4905-95C5-9651C1008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FD05-4237-4229-8BA9-B04228F13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9E18-74FD-4BE5-9633-27FFC4915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0D12-8486-4BE9-B6EE-897333BBF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51B0-F197-42BB-BD99-E02F49A4B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49B7-098E-484A-AADD-73211B05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DD71-2F17-4323-ADFD-B53F42CD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E7A5F0-2273-4310-A4C0-23EAFE012F2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