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870634"/>
        <c:axId val="41303352"/>
      </c:barChart>
      <c:catAx>
        <c:axId val="838706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303352"/>
        <c:crosses val="autoZero"/>
        <c:auto val="1"/>
        <c:lblAlgn val="ctr"/>
        <c:lblOffset val="100"/>
        <c:noMultiLvlLbl val="0"/>
      </c:catAx>
      <c:valAx>
        <c:axId val="413033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8706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211E-E755-4082-9F29-24B6AFEF5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AD01-0C09-4DD6-807A-BEC0D332B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002D-BF94-410C-9959-EB6DC4593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6D34-1E2C-43CA-A7DF-40BF642B6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970D-C777-41F9-99F9-7C41B2647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A290-23D9-4876-8123-7F6A3A21C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3942-04F8-4939-A4AF-E6C203EB1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838A-9908-4731-A520-BC5E7F40D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6127-BF06-4815-BB6C-B519A01BC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10E8-55AD-4991-B824-6EBC69EE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D19A-E3BA-4AC0-97B7-206E9F29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E9AE-BA87-45FA-8323-062AA143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8E9299-DB48-4352-8B3F-F94F378A672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