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91069"/>
        <c:axId val="52955990"/>
      </c:barChart>
      <c:catAx>
        <c:axId val="343910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55990"/>
        <c:crosses val="autoZero"/>
        <c:auto val="1"/>
        <c:lblAlgn val="ctr"/>
        <c:lblOffset val="100"/>
        <c:noMultiLvlLbl val="0"/>
      </c:catAx>
      <c:valAx>
        <c:axId val="52955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910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5651-A8C8-4F96-A1A5-9669FE05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316-1DE9-4264-A1E2-3D4FBEE9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C6D-25A0-4C87-8AC8-C7362943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577-13B8-4E3A-87C1-DF74C7B7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C69-E8D5-4282-BAFB-87E30530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6AB-4145-43F7-A5A3-C8F17A48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BC6-E1A7-401A-99BE-4B528F95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C80-10AB-4DD9-9F2A-BA4FE1AE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3B48-C506-4E09-922F-AD32C612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549-893B-4245-8ADB-7204D7C4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092-6B60-4B52-8DDE-F5F61ACD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3538-1B27-45B8-B33D-26557D42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FE03D-D8C1-4557-9962-1231F8DC71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