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89680"/>
        <c:axId val="46273215"/>
      </c:barChart>
      <c:catAx>
        <c:axId val="39689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73215"/>
        <c:crosses val="autoZero"/>
        <c:auto val="1"/>
        <c:lblAlgn val="ctr"/>
        <c:lblOffset val="100"/>
        <c:noMultiLvlLbl val="0"/>
      </c:catAx>
      <c:valAx>
        <c:axId val="46273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89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E09-0768-4824-848A-A8D9B4B2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143-443D-42D1-9C2E-244DFE99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C57-3D47-4C43-95B3-AF2CC054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6301-1EF3-4454-B479-51D40670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00E-5C17-40DB-9A24-BEDFEEEF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F6B-50DE-46D4-B2BB-748728D2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930-99E2-4F83-9CE6-E8B2C021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086-B6B0-4A35-B282-648B5DBD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5B6-E076-4226-935A-5D227C92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7F5-7420-4A6D-83F3-E87E9387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E60-07CE-4FC2-BF01-7A739774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62F-1C67-47D0-BCDA-0727B157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E1F9A-70AF-471D-8214-83E26326CE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