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77573"/>
        <c:axId val="51111331"/>
      </c:barChart>
      <c:catAx>
        <c:axId val="53777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11331"/>
        <c:crosses val="autoZero"/>
        <c:auto val="1"/>
        <c:lblAlgn val="ctr"/>
        <c:lblOffset val="100"/>
        <c:noMultiLvlLbl val="0"/>
      </c:catAx>
      <c:valAx>
        <c:axId val="51111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77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BD2-1503-463E-8AAA-E3DB1A78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7B2-97DF-473F-A50A-E5FE970E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ADC-0FCE-493B-A185-6097E25F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7BE-4CF8-44F4-A852-E6CAFBDE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212-8DCC-4D62-8324-D1E55553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3A9-A085-4DF0-901C-6254824C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8AB-84F6-4C26-BD6B-08F1999F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BCB-5828-4E46-ADAD-84B8FDAB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674-306C-4CD3-AD0A-DB79CDF1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461-2E55-46CD-8789-BD96479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B18-54CE-4591-A836-B4B16AD2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1E0-2938-438A-A178-FDC85510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86CF3-9CA7-4FCF-B34C-EF9C54D2F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