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26237"/>
        <c:axId val="64772844"/>
      </c:barChart>
      <c:catAx>
        <c:axId val="24726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72844"/>
        <c:crosses val="autoZero"/>
        <c:auto val="1"/>
        <c:lblAlgn val="ctr"/>
        <c:lblOffset val="100"/>
        <c:noMultiLvlLbl val="0"/>
      </c:catAx>
      <c:valAx>
        <c:axId val="64772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26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E23-7878-4A69-81EB-A5DF5594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EF0-8925-4ADC-9A94-E70DE043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3AE9-BDC0-45F8-8389-5D17D595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86C-88D3-446D-8E28-13E28EBB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458-12B1-4DDD-A94B-99C08BD4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A7D9-1B58-4841-858F-0B6CF0C8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1AF-6EDF-45D6-B63C-BAA60AF6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4A5-0D05-447F-8DB3-2B2F4805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F8F-8473-4459-9AB9-5301CE49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3BE-F326-4ED7-987E-443D186C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B56-DC56-400E-B31F-E7C3C897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602-F67E-4FE0-BBA1-801038BD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CD7A6-C4DD-492F-B611-608BD02DA9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