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29535"/>
        <c:axId val="94957290"/>
      </c:barChart>
      <c:catAx>
        <c:axId val="33729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57290"/>
        <c:crosses val="autoZero"/>
        <c:auto val="1"/>
        <c:lblAlgn val="ctr"/>
        <c:lblOffset val="100"/>
        <c:noMultiLvlLbl val="0"/>
      </c:catAx>
      <c:valAx>
        <c:axId val="94957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29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E24-13AC-4229-864C-810DE8B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404-CAE4-4170-B575-A86BE94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B00-F468-416D-BA6B-FD77F167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761-136D-4292-B2F8-E78352ED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8CE-69E1-413D-8BD9-8F74893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E66-1EF9-4C00-83B2-740934D1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430-40B0-4962-99BB-16D7A24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A3F-9A62-4C81-82C1-43292CD8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3BB-A4F8-4008-9820-736375A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F9F-937A-4705-813C-B9588F0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AA9-8472-48A6-A2E4-A4B810E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C3B-91F9-45FD-B595-D712A8F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35FE-BB5B-4617-AE7F-05AD1E74F9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