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98581"/>
        <c:axId val="28837250"/>
      </c:barChart>
      <c:catAx>
        <c:axId val="53298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7250"/>
        <c:crosses val="autoZero"/>
        <c:auto val="1"/>
        <c:lblAlgn val="ctr"/>
        <c:lblOffset val="100"/>
        <c:noMultiLvlLbl val="0"/>
      </c:catAx>
      <c:valAx>
        <c:axId val="28837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98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E30-D151-4BE4-9E24-996FFD9E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CD2-1DBD-4DFF-BC72-1F9CC61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E82-7153-45E3-A116-0A81532B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7DB-94A4-4E82-802F-54DDB561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52B-313A-45F5-9EA1-6391BAB0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BBD-4ECC-4177-9A46-DFD6E182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B7F-88AF-48D9-B1A7-96B6677B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26F-E7D2-435C-8786-4E993BA7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EAC-1C2D-4CEC-A183-C4A6721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E51-FC96-4E31-BA2C-3D8E87D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D95-E82F-43B7-8454-44ACDFC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7C3-82E2-4C37-BDC2-414357D6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7568E-8B07-4DD6-8565-2DC8B63E9E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