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01283"/>
        <c:axId val="83920856"/>
      </c:barChart>
      <c:catAx>
        <c:axId val="83601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20856"/>
        <c:crosses val="autoZero"/>
        <c:auto val="1"/>
        <c:lblAlgn val="ctr"/>
        <c:lblOffset val="100"/>
        <c:noMultiLvlLbl val="0"/>
      </c:catAx>
      <c:valAx>
        <c:axId val="83920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01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09B-B193-4F18-BF5D-885DC713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893-84CB-440C-A555-83C12D6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792-F61A-4BE5-91F7-71DF930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978-4F1B-42D3-B89E-BC940B88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82D-408C-4498-9C36-54158CAB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742-A9AD-48CF-B239-0A24E90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F78-2095-4469-9FE7-AED2577F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C5C-0C5D-41DE-A170-14299FA0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5CA-7E8C-477D-91EE-02DF4F99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FC0-2E7F-424F-9322-4D086B3C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A20-84E5-46ED-BCC9-B28BF2B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A0C-050D-4FF4-9AD4-E2D6214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721E-B6F2-4E20-ACDE-F9D39109E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