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25226"/>
        <c:axId val="23004840"/>
      </c:barChart>
      <c:catAx>
        <c:axId val="10625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04840"/>
        <c:crosses val="autoZero"/>
        <c:auto val="1"/>
        <c:lblAlgn val="ctr"/>
        <c:lblOffset val="100"/>
        <c:noMultiLvlLbl val="0"/>
      </c:catAx>
      <c:valAx>
        <c:axId val="23004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25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F76-C038-47F5-A225-495BA70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85C-E078-4CAC-9A9C-CE30A55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537-65F6-403F-92DC-CED757AA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EBE-991B-4AF0-BE88-690E94F8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AAC-FDF6-427E-90E2-256ABA6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5FB-613C-4569-BCE3-037D81A2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CCE-CC82-4A65-BD58-DBF2A42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FAF-5067-4C83-83D0-8ECF7C8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E4E-51BA-41C1-A7FE-945BD186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CF6-4446-4192-AC4C-40985C3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09C-E3DF-4289-8603-5521B43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4EF-0435-4D8B-B7AC-329691B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DAA6-8D6B-44AC-94D2-789E7911E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